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3400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6D8-9F64-4E02-896D-E71A71E0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8908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5C8-E68B-4336-B53A-F2C31FF0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0DB-C072-4CA2-A650-2487CD73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082-F72D-4F25-B279-BDF5563B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42920" y="274680"/>
            <a:ext cx="7274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085-4994-47E0-9700-3F86925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8908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55736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89080"/>
            <a:ext cx="26424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8A7-F448-45C5-8088-6D294AE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496-0D25-4034-ABE5-7F4F648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A12-C245-49D5-BCD5-5D56203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920" y="274680"/>
            <a:ext cx="7274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112-CF0B-4FD4-AFED-86F2A42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2C3-09E4-450C-9DC1-496361E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8908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1BB-1331-4689-B11C-AA638E5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57360"/>
            <a:ext cx="40050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89080"/>
            <a:ext cx="82072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C5F-A1FC-4261-988E-ADC4F29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5260" t="13035" r="8784" b="22057"/>
          <a:stretch/>
        </p:blipFill>
        <p:spPr>
          <a:xfrm>
            <a:off x="6588000" y="6264360"/>
            <a:ext cx="2340000" cy="477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66560" y="6244920"/>
            <a:ext cx="187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B81-C4B4-44E3-94C2-C5B49FEC7A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77128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748720" y="-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4FF-BB72-4BE6-84A2-174D4E68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5260" t="13035" r="8784" b="22057"/>
          <a:stretch/>
        </p:blipFill>
        <p:spPr>
          <a:xfrm>
            <a:off x="6588000" y="6264360"/>
            <a:ext cx="234000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2741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variabilité climatique sur la Loire-Atlan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cipitations annuelles (janvier à décembre) à la station de référence Nantes Aéroport sur la période 1946 -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280" y="1219320"/>
          <a:ext cx="8686800" cy="49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19320"/>
                    <a:ext cx="86868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2741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variabilité climatique sur la Loire-Atlan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ératures moyennes à la station de référence Nantes Aéroport sur la période 1946 -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219320"/>
          <a:ext cx="9067680" cy="49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06768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2741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variabilité climatique sur la Loire-Atlant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bre de jours de gel à la station de référence Nantes Aéroport sur la période 1946 -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219320"/>
          <a:ext cx="9115560" cy="49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11556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3:16:10Z</dcterms:created>
  <dc:creator>PUBLICIS</dc:creator>
  <dc:description/>
  <dc:language>en-US</dc:language>
  <cp:lastModifiedBy>christophe.pin</cp:lastModifiedBy>
  <dcterms:modified xsi:type="dcterms:W3CDTF">2008-10-16T14:37:56Z</dcterms:modified>
  <cp:revision>14</cp:revision>
  <dc:subject/>
  <dc:title>Diapositive 1</dc:title>
</cp:coreProperties>
</file>